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5BF5-E621-4E3F-A3D9-459DD93D11F2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C98B-0C16-4D40-B006-0A280542E9A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D161-98B0-4C28-B88D-A7E0AB9658D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14000" y="29988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Format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Building understandable spreadsheets; Version 1.0, Reviewed --/--/----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Local Data Management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Building understandable spreadsheet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Jeff Arnfiel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Climatic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28564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ok, R. B., R. J. Olson, P. Kanciruk, L. A. Hook. 2001 “Best Practices for Preparing Ecological Data Sets to Share and Archive.” Bulletin of the Ecological Society of America 82(2):138-141. http://www.jstor.org/stable/20168543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eong, K. “Seven deadly sins of spreadsheet use in business: Excel best practices.” http://production-scheduling.com/seven-deadly-spreadsheet-sins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CMD science and associated directory keywords http://gcmd.nasa.gov/Resources/valids/archives/keyword_list.html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F Metadata Convention – CF Standard Names.     http://cf-pcmdi.llnl.gov/documents/cf-standard-names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voiding proprietary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ile naming conven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aintaining contemporaneous 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lanning for longer term preserv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ork with your archive early and ofte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preadsheets are amazingly flexible, and are commonly used for data collection, analysis and manage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preadsheets are seldom self-documenting, and seldom well-document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ubtle (and not so subtle) errors are easily introduced during entry, manipulation and analysi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preadsheet conventions – often ad hoc and evolutionary – may change or be applied inconsistentl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preadsheet file formats are proprietary and thus generally unacceptable as long term archival purpos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ior planning prevents pitfall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early document all parameters, conventions, algorithms and assump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descriptive, consistent nam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optimal and consistent layouts and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e raw data and minimize duplic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alidate data and formula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Keep formulae as simple and comprehensible as poss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some method of version control to manage chan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velop a strategy for archiving the content and logic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lanning and document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rm follows function and cont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sources, volume, diversity of content and planned transformations may require multiple files or director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Your data will often suggest natural naming conventions and layou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ument your conventions as they’re establish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se documentation contemporaneously, not “after the fact”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is work is also the basis for end-user or reviewer 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at should you document? Everything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import, manipulation, QC procedures, special flags and encod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ming conventions, layouts, headings, units and abbrevi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824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EMP mean “temporary,” “air temperature at time of observation,” or 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rmulae and consta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at’s in a name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fine naming conventions fo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rectory hierarchies (if the scope of your project requires them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les, including different versions if necessa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lumn and row labels, and individual tabs on multi-tab spreadshee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mes should clearly and uniquely describe cont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heet1, Sheet2 and Sheet3 do not convey much useful information!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able, consistent names can be referenced and process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dates form part of a name, use a sortable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yyyymmdd (20110825) is easier to process and validate automatically than 25Aug2011, or the unthinkable 25Aug11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standard abbreviations or keywords, if they exis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Layout and formatt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appropriate data typ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e/time data type permits sorting and calculations 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f numeric identifiers may have leading 0s, format as tex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rmat numeric values with the appropriate number of decimal pla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separate columns to denote special cases rather than relying solely upon even well-documented color cod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lor coded conditions cannot readily be sorted and aggrega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lor coding is lost entirely if data are exported as ASCII tex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enough detail to make the data self-describ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tem identifier, date, time, parameter name, units, value, quality fla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ke the spreadsheet self-contained by adding a tab with legend details, column definitions and formula descrip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handling and formulae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n’t combine multiple data layouts in a single shee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sheets have common content, identical layouts and headings increase clarity and simplify linking for analysi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mplify updates by separating data and analys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f data are propagated across sheets or manually manipulated, refreshing data can be a daunting and error-prone tas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reeze heading rows and columns to provide context as you work deep in the shee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lacing totals, counts and other summary statistics above the column headers ensures they are always vis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eaders, footers and repeating headings improve printou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320" y="2323800"/>
            <a:ext cx="11861640" cy="659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ard code nothing!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 a separate “values and assumptions” tab or area for constants and conversion factor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 named ranges and cells rather than row/column referen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2*CubicFtToGallonConvertFactor is clearer than C2*Assumptions!$B$3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en sorting rows or copying formulae, be sure cell references do not change unintentionall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ost spreadsheets have data validation tools. Use them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f using spreadsheet for data entry, build entry validation rul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unts, averages, max/mins, standard deviations, value lookups and custom formulae provide more sophisticated QC check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ivot tables are useful for QC and summariz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Version control and archiv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ersioning and change manage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eriodic, dated backups are essenti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imple version control is possible via a naming convention for saving incremental copies, along with a log of significant changes 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ersion control systems, like Subversion, are powerful but  complex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ow will you archive for long-term availability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Gear your approach to your data, and to your archive’s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ave content as delimited ASCII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824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ust save each tab separate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3824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cument formulae separately, since results rather than formulae are sav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3824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asy cheat: &lt;ctrl&gt;~ will reveal formulae, which can then be exported intact. However, references to other sheets will not be readily resolv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vert to XM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inting as PDF preserves appearance, but complicates future re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Jeff Arnfield</dc:creator>
  <dc:description/>
  <dc:language>en-US</dc:language>
  <cp:lastModifiedBy>Jeff Arnfield</cp:lastModifiedBy>
  <dcterms:modified xsi:type="dcterms:W3CDTF">2011-10-07T19:17:50Z</dcterms:modified>
  <cp:revision>97</cp:revision>
  <dc:subject/>
  <dc:title>ESIP Federation 101</dc:title>
</cp:coreProperties>
</file>